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wmf" ContentType="image/x-wmf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7199B0E-203F-4552-BC46-DFBA7532E061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l-GR"/>
        </a:p>
      </dgm:t>
    </dgm:pt>
    <dgm:pt modelId="{D69D0CEF-017C-47BC-9CCB-10529A92C632}">
      <dgm:prSet phldrT="[Κείμενο]"/>
      <dgm:spPr/>
      <dgm:t>
        <a:bodyPr/>
        <a:lstStyle/>
        <a:p>
          <a:r>
            <a:rPr lang="en-US" b="1" dirty="0" smtClean="0"/>
            <a:t>ANALOG &amp; ALL OPTICAL PROCESSORS	</a:t>
          </a:r>
          <a:endParaRPr lang="el-GR" b="1" dirty="0"/>
        </a:p>
      </dgm:t>
    </dgm:pt>
    <dgm:pt modelId="{BD3E0C3D-7D85-408B-88E8-EA0FDEF77DF8}" type="parTrans" cxnId="{95423282-614B-435C-9A3E-E2C0EE3D00AD}">
      <dgm:prSet/>
      <dgm:spPr/>
      <dgm:t>
        <a:bodyPr/>
        <a:lstStyle/>
        <a:p>
          <a:endParaRPr lang="el-GR"/>
        </a:p>
      </dgm:t>
    </dgm:pt>
    <dgm:pt modelId="{97498069-B9A3-4E3A-8BA1-1DD5B26CD02E}" type="sibTrans" cxnId="{95423282-614B-435C-9A3E-E2C0EE3D00AD}">
      <dgm:prSet/>
      <dgm:spPr/>
      <dgm:t>
        <a:bodyPr/>
        <a:lstStyle/>
        <a:p>
          <a:endParaRPr lang="el-GR"/>
        </a:p>
      </dgm:t>
    </dgm:pt>
    <dgm:pt modelId="{D7761EC5-4E03-4CE5-B413-7B9721D51A4C}">
      <dgm:prSet phldrT="[Κείμενο]"/>
      <dgm:spPr/>
      <dgm:t>
        <a:bodyPr/>
        <a:lstStyle/>
        <a:p>
          <a:pPr algn="l"/>
          <a:r>
            <a:rPr lang="en-US" dirty="0" smtClean="0"/>
            <a:t>Transcription of Universal Digital Machines to Analog Computers</a:t>
          </a:r>
          <a:endParaRPr lang="el-GR" dirty="0"/>
        </a:p>
      </dgm:t>
    </dgm:pt>
    <dgm:pt modelId="{C0F35F5A-4662-466D-9AC8-BE701A1DA95A}" type="parTrans" cxnId="{384D0011-13F4-43A2-9A6D-556BE87139C8}">
      <dgm:prSet/>
      <dgm:spPr/>
      <dgm:t>
        <a:bodyPr/>
        <a:lstStyle/>
        <a:p>
          <a:endParaRPr lang="el-GR"/>
        </a:p>
      </dgm:t>
    </dgm:pt>
    <dgm:pt modelId="{6BDD8315-18F3-4064-8879-C160BECC7606}" type="sibTrans" cxnId="{384D0011-13F4-43A2-9A6D-556BE87139C8}">
      <dgm:prSet/>
      <dgm:spPr/>
      <dgm:t>
        <a:bodyPr/>
        <a:lstStyle/>
        <a:p>
          <a:endParaRPr lang="el-GR"/>
        </a:p>
      </dgm:t>
    </dgm:pt>
    <dgm:pt modelId="{99190799-D416-4FDD-97A3-4FF953552ABA}">
      <dgm:prSet phldrT="[Κείμενο]"/>
      <dgm:spPr/>
      <dgm:t>
        <a:bodyPr/>
        <a:lstStyle/>
        <a:p>
          <a:pPr algn="l"/>
          <a:r>
            <a:rPr lang="en-US" dirty="0" smtClean="0"/>
            <a:t>Two alternative architectures</a:t>
          </a:r>
          <a:endParaRPr lang="el-GR" dirty="0"/>
        </a:p>
      </dgm:t>
    </dgm:pt>
    <dgm:pt modelId="{B66C7BFA-2EC5-437E-9DA8-A29160BF5491}" type="parTrans" cxnId="{38ED6508-6BEE-49B2-8C90-FFA7D84EFE61}">
      <dgm:prSet/>
      <dgm:spPr/>
      <dgm:t>
        <a:bodyPr/>
        <a:lstStyle/>
        <a:p>
          <a:endParaRPr lang="el-GR"/>
        </a:p>
      </dgm:t>
    </dgm:pt>
    <dgm:pt modelId="{7E1E414A-1114-47BA-A17A-ACC1E30EC901}" type="sibTrans" cxnId="{38ED6508-6BEE-49B2-8C90-FFA7D84EFE61}">
      <dgm:prSet/>
      <dgm:spPr/>
      <dgm:t>
        <a:bodyPr/>
        <a:lstStyle/>
        <a:p>
          <a:endParaRPr lang="el-GR"/>
        </a:p>
      </dgm:t>
    </dgm:pt>
    <dgm:pt modelId="{99D1442A-8419-4940-8C31-A46901D42A5F}">
      <dgm:prSet phldrT="[Κείμενο]"/>
      <dgm:spPr/>
      <dgm:t>
        <a:bodyPr/>
        <a:lstStyle/>
        <a:p>
          <a:pPr algn="l"/>
          <a:r>
            <a:rPr lang="en-US" dirty="0" smtClean="0"/>
            <a:t>Oscillator Networks – Sequential Optical Automata</a:t>
          </a:r>
          <a:endParaRPr lang="el-GR" dirty="0"/>
        </a:p>
      </dgm:t>
    </dgm:pt>
    <dgm:pt modelId="{0F6650E2-66F7-44F8-88E9-AAF65EACC3EC}" type="parTrans" cxnId="{A9886CD5-45C4-48AE-8F79-2913035C956D}">
      <dgm:prSet/>
      <dgm:spPr/>
      <dgm:t>
        <a:bodyPr/>
        <a:lstStyle/>
        <a:p>
          <a:endParaRPr lang="el-GR"/>
        </a:p>
      </dgm:t>
    </dgm:pt>
    <dgm:pt modelId="{808E5E7B-3AF1-41B2-9408-CD900F9F1605}" type="sibTrans" cxnId="{A9886CD5-45C4-48AE-8F79-2913035C956D}">
      <dgm:prSet/>
      <dgm:spPr/>
      <dgm:t>
        <a:bodyPr/>
        <a:lstStyle/>
        <a:p>
          <a:endParaRPr lang="el-GR"/>
        </a:p>
      </dgm:t>
    </dgm:pt>
    <dgm:pt modelId="{B23B6FAD-F647-45E5-8A13-C33E8DF7FB63}" type="pres">
      <dgm:prSet presAssocID="{47199B0E-203F-4552-BC46-DFBA7532E06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l-GR"/>
        </a:p>
      </dgm:t>
    </dgm:pt>
    <dgm:pt modelId="{27064FE4-6584-430E-BF41-006F9FE0B802}" type="pres">
      <dgm:prSet presAssocID="{D69D0CEF-017C-47BC-9CCB-10529A92C63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el-GR"/>
        </a:p>
      </dgm:t>
    </dgm:pt>
    <dgm:pt modelId="{4217CE49-4E17-49A0-AD59-3E9FC2D50731}" type="pres">
      <dgm:prSet presAssocID="{D69D0CEF-017C-47BC-9CCB-10529A92C632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l-GR"/>
        </a:p>
      </dgm:t>
    </dgm:pt>
  </dgm:ptLst>
  <dgm:cxnLst>
    <dgm:cxn modelId="{38ED6508-6BEE-49B2-8C90-FFA7D84EFE61}" srcId="{D69D0CEF-017C-47BC-9CCB-10529A92C632}" destId="{99190799-D416-4FDD-97A3-4FF953552ABA}" srcOrd="1" destOrd="0" parTransId="{B66C7BFA-2EC5-437E-9DA8-A29160BF5491}" sibTransId="{7E1E414A-1114-47BA-A17A-ACC1E30EC901}"/>
    <dgm:cxn modelId="{EDF60AAF-9373-45BC-8C04-15DB32B2F81D}" type="presOf" srcId="{99D1442A-8419-4940-8C31-A46901D42A5F}" destId="{4217CE49-4E17-49A0-AD59-3E9FC2D50731}" srcOrd="0" destOrd="2" presId="urn:microsoft.com/office/officeart/2005/8/layout/vList2"/>
    <dgm:cxn modelId="{4A9A5156-E824-4C8B-8E40-77504262F67D}" type="presOf" srcId="{47199B0E-203F-4552-BC46-DFBA7532E061}" destId="{B23B6FAD-F647-45E5-8A13-C33E8DF7FB63}" srcOrd="0" destOrd="0" presId="urn:microsoft.com/office/officeart/2005/8/layout/vList2"/>
    <dgm:cxn modelId="{6A30BEF0-2EDA-4A74-A952-3348870195C4}" type="presOf" srcId="{D7761EC5-4E03-4CE5-B413-7B9721D51A4C}" destId="{4217CE49-4E17-49A0-AD59-3E9FC2D50731}" srcOrd="0" destOrd="0" presId="urn:microsoft.com/office/officeart/2005/8/layout/vList2"/>
    <dgm:cxn modelId="{7A250D48-CF67-4A88-8184-9E749B7EDBE5}" type="presOf" srcId="{99190799-D416-4FDD-97A3-4FF953552ABA}" destId="{4217CE49-4E17-49A0-AD59-3E9FC2D50731}" srcOrd="0" destOrd="1" presId="urn:microsoft.com/office/officeart/2005/8/layout/vList2"/>
    <dgm:cxn modelId="{384D0011-13F4-43A2-9A6D-556BE87139C8}" srcId="{D69D0CEF-017C-47BC-9CCB-10529A92C632}" destId="{D7761EC5-4E03-4CE5-B413-7B9721D51A4C}" srcOrd="0" destOrd="0" parTransId="{C0F35F5A-4662-466D-9AC8-BE701A1DA95A}" sibTransId="{6BDD8315-18F3-4064-8879-C160BECC7606}"/>
    <dgm:cxn modelId="{D34A3040-4329-4433-B5C3-8EA218A3B44E}" type="presOf" srcId="{D69D0CEF-017C-47BC-9CCB-10529A92C632}" destId="{27064FE4-6584-430E-BF41-006F9FE0B802}" srcOrd="0" destOrd="0" presId="urn:microsoft.com/office/officeart/2005/8/layout/vList2"/>
    <dgm:cxn modelId="{95423282-614B-435C-9A3E-E2C0EE3D00AD}" srcId="{47199B0E-203F-4552-BC46-DFBA7532E061}" destId="{D69D0CEF-017C-47BC-9CCB-10529A92C632}" srcOrd="0" destOrd="0" parTransId="{BD3E0C3D-7D85-408B-88E8-EA0FDEF77DF8}" sibTransId="{97498069-B9A3-4E3A-8BA1-1DD5B26CD02E}"/>
    <dgm:cxn modelId="{A9886CD5-45C4-48AE-8F79-2913035C956D}" srcId="{D69D0CEF-017C-47BC-9CCB-10529A92C632}" destId="{99D1442A-8419-4940-8C31-A46901D42A5F}" srcOrd="2" destOrd="0" parTransId="{0F6650E2-66F7-44F8-88E9-AAF65EACC3EC}" sibTransId="{808E5E7B-3AF1-41B2-9408-CD900F9F1605}"/>
    <dgm:cxn modelId="{AFDDBB12-04F9-4F60-8623-6F890DBDF571}" type="presParOf" srcId="{B23B6FAD-F647-45E5-8A13-C33E8DF7FB63}" destId="{27064FE4-6584-430E-BF41-006F9FE0B802}" srcOrd="0" destOrd="0" presId="urn:microsoft.com/office/officeart/2005/8/layout/vList2"/>
    <dgm:cxn modelId="{30E3CF96-6D68-4C8F-B768-8C1CF16D9542}" type="presParOf" srcId="{B23B6FAD-F647-45E5-8A13-C33E8DF7FB63}" destId="{4217CE49-4E17-49A0-AD59-3E9FC2D50731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7064FE4-6584-430E-BF41-006F9FE0B802}">
      <dsp:nvSpPr>
        <dsp:cNvPr id="0" name=""/>
        <dsp:cNvSpPr/>
      </dsp:nvSpPr>
      <dsp:spPr>
        <a:xfrm>
          <a:off x="0" y="77849"/>
          <a:ext cx="8229600" cy="62361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9060" tIns="99060" rIns="99060" bIns="99060" numCol="1" spcCol="1270" anchor="ctr" anchorCtr="0">
          <a:noAutofit/>
        </a:bodyPr>
        <a:lstStyle/>
        <a:p>
          <a:pPr lvl="0" algn="l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600" b="1" kern="1200" dirty="0" smtClean="0"/>
            <a:t>ANALOG &amp; ALL OPTICAL PROCESSORS	</a:t>
          </a:r>
          <a:endParaRPr lang="el-GR" sz="2600" b="1" kern="1200" dirty="0"/>
        </a:p>
      </dsp:txBody>
      <dsp:txXfrm>
        <a:off x="0" y="77849"/>
        <a:ext cx="8229600" cy="623610"/>
      </dsp:txXfrm>
    </dsp:sp>
    <dsp:sp modelId="{4217CE49-4E17-49A0-AD59-3E9FC2D50731}">
      <dsp:nvSpPr>
        <dsp:cNvPr id="0" name=""/>
        <dsp:cNvSpPr/>
      </dsp:nvSpPr>
      <dsp:spPr>
        <a:xfrm>
          <a:off x="0" y="701460"/>
          <a:ext cx="8229600" cy="104949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33020" rIns="184912" bIns="33020" numCol="1" spcCol="1270" anchor="t" anchorCtr="0">
          <a:noAutofit/>
        </a:bodyPr>
        <a:lstStyle/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kern="1200" dirty="0" smtClean="0"/>
            <a:t>Transcription of Universal Digital Machines to Analog Computers</a:t>
          </a:r>
          <a:endParaRPr lang="el-GR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kern="1200" dirty="0" smtClean="0"/>
            <a:t>Two alternative architectures</a:t>
          </a:r>
          <a:endParaRPr lang="el-GR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kern="1200" dirty="0" smtClean="0"/>
            <a:t>Oscillator Networks – Sequential Optical Automata</a:t>
          </a:r>
          <a:endParaRPr lang="el-GR" sz="2000" kern="1200" dirty="0"/>
        </a:p>
      </dsp:txBody>
      <dsp:txXfrm>
        <a:off x="0" y="701460"/>
        <a:ext cx="8229600" cy="104949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714-9F6A-4B75-B1ED-EEEE8BDE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F4C-3388-4DDF-89DA-0ADC83E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64A-9B72-43FB-A737-C83020D4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003-1364-4FE5-9232-74673162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43BB-490E-4E3B-B4FD-19894ED9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968-9115-4498-A7BD-7F07A6B9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DA5-6DF3-4BA7-8747-B3E9F2C8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B376-B63D-45C6-89AE-4CD8287B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E30E-CB86-498E-BAE6-EB5F61B1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638-2F87-4698-8A92-7C864D66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A5FA-D4B5-4024-A92F-62E1971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7F7-4408-41D6-8D7F-DFA49E7D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46A-0938-42B8-976E-1EF9AFB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882E-9205-4516-95DF-E174AD88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397D-DF16-4A43-B61D-B0695526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9CC-2EC1-4CAB-AF15-C9C69510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B83E-49DC-4D6E-A59A-AD4A3F0A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92C-51B7-4B3E-BDF2-18769408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B63-8529-4E59-8D1C-51D840F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0CE-34A5-4F71-A73A-E468E0F1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059-63CE-4BCF-BAD9-52A1B10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5C4-0AAA-4028-A1B6-F8B48789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5F9-5F77-42DC-86D8-FE893B05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937-423C-41D1-8DD9-0A00FFA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l-GR" sz="4800" spc="-1" strike="noStrike" cap="all">
                <a:solidFill>
                  <a:srgbClr val="000000"/>
                </a:solidFill>
                <a:latin typeface="Lucida Sans"/>
              </a:rPr>
              <a:t>Kλικ για επεξεργασία του τίτλου</a:t>
            </a:r>
            <a:endParaRPr b="0" lang="el-GR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6E600F-C292-4F43-9B52-3E67A546DBDF}" type="slidenum"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l-GR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l-GR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l-GR" sz="4100" spc="-1" strike="noStrike">
                <a:solidFill>
                  <a:srgbClr val="000000"/>
                </a:solidFill>
                <a:latin typeface="Lucida Sans"/>
              </a:rPr>
              <a:t>Kλικ για επεξεργασία του τίτλου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l-GR" sz="2800" spc="-1" strike="noStrike">
                <a:solidFill>
                  <a:srgbClr val="ffffff"/>
                </a:solidFill>
                <a:latin typeface="Book Antiqua"/>
              </a:rPr>
              <a:t>Kλικ για επεξεργασία των στυλ του υποδείγματος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l-GR" sz="2400" spc="-1" strike="noStrike">
                <a:solidFill>
                  <a:srgbClr val="ffffff"/>
                </a:solidFill>
                <a:latin typeface="Book Antiqua"/>
              </a:rPr>
              <a:t>Δεύτερου επιπέδου</a:t>
            </a:r>
            <a:endParaRPr b="0" lang="el-GR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l-GR" sz="2200" spc="-1" strike="noStrike">
                <a:solidFill>
                  <a:srgbClr val="ffffff"/>
                </a:solidFill>
                <a:latin typeface="Book Antiqua"/>
              </a:rPr>
              <a:t>Τρίτου επιπέδου</a:t>
            </a:r>
            <a:endParaRPr b="0" lang="el-GR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Τέταρτου επιπέδου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l-GR" sz="2000" spc="-1" strike="noStrike">
                <a:solidFill>
                  <a:srgbClr val="ffffff"/>
                </a:solidFill>
                <a:latin typeface="Book Antiqua"/>
              </a:rPr>
              <a:t>Πέμπτου επιπέδου</a:t>
            </a:r>
            <a:endParaRPr b="0" lang="el-GR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29B9F9-A35D-403E-B2F9-5BFFB3B905E4}" type="slidenum">
              <a:rPr b="0" lang="el-G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mailto:rtheo@dat.demokritos.gr" TargetMode="External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ltiple_frequency-shift_keyi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ithub.com/catseye/ALPACA" TargetMode="External"/><Relationship Id="rId2" Type="http://schemas.openxmlformats.org/officeDocument/2006/relationships/hyperlink" Target="https://esolangs.org/wiki/C2BF" TargetMode="External"/><Relationship Id="rId3" Type="http://schemas.openxmlformats.org/officeDocument/2006/relationships/hyperlink" Target="https://esolangs.org/wiki/C2BF" TargetMode="External"/><Relationship Id="rId4" Type="http://schemas.openxmlformats.org/officeDocument/2006/relationships/hyperlink" Target="http://arxiv.org/abs/0907.2173" TargetMode="External"/><Relationship Id="rId5" Type="http://schemas.openxmlformats.org/officeDocument/2006/relationships/hyperlink" Target="http://arxiv.org/abs/0907.2173" TargetMode="External"/><Relationship Id="rId6" Type="http://schemas.openxmlformats.org/officeDocument/2006/relationships/hyperlink" Target="http://arxiv.org/abs/1106.2593" TargetMode="External"/><Relationship Id="rId7" Type="http://schemas.openxmlformats.org/officeDocument/2006/relationships/hyperlink" Target="http://arxiv.org/abs/1106.2593" TargetMode="External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07908588"/>
              </p:ext>
            </p:extLst>
          </p:nvPr>
        </p:nvGraphicFramePr>
        <p:xfrm>
          <a:off x="421920" y="1371600"/>
          <a:ext cx="8229240" cy="1828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heophanes E. Rap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rtheo@dat.demokritos.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vision of Applied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CSR “Demokrit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4 - Εικόνα" descr="cag-logo.gif"/>
          <p:cNvPicPr/>
          <p:nvPr/>
        </p:nvPicPr>
        <p:blipFill>
          <a:blip r:embed="rId7"/>
          <a:stretch/>
        </p:blipFill>
        <p:spPr>
          <a:xfrm>
            <a:off x="3467880" y="5805360"/>
            <a:ext cx="959760" cy="719640"/>
          </a:xfrm>
          <a:prstGeom prst="rect">
            <a:avLst/>
          </a:prstGeom>
          <a:ln w="0">
            <a:noFill/>
          </a:ln>
        </p:spPr>
      </p:pic>
      <p:pic>
        <p:nvPicPr>
          <p:cNvPr id="84" name="5 - Εικόνα" descr="demokritos_logo.gif"/>
          <p:cNvPicPr/>
          <p:nvPr/>
        </p:nvPicPr>
        <p:blipFill>
          <a:blip r:embed="rId8"/>
          <a:stretch/>
        </p:blipFill>
        <p:spPr>
          <a:xfrm>
            <a:off x="4415400" y="5805360"/>
            <a:ext cx="7322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Block Correspondence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3 - Θέση περιεχομένου" descr="CAcell.PNG"/>
          <p:cNvPicPr/>
          <p:nvPr/>
        </p:nvPicPr>
        <p:blipFill>
          <a:blip r:embed="rId1"/>
          <a:stretch/>
        </p:blipFill>
        <p:spPr>
          <a:xfrm>
            <a:off x="827640" y="1700640"/>
            <a:ext cx="1131840" cy="1367640"/>
          </a:xfrm>
          <a:prstGeom prst="rect">
            <a:avLst/>
          </a:prstGeom>
          <a:ln w="0">
            <a:noFill/>
          </a:ln>
        </p:spPr>
      </p:pic>
      <p:pic>
        <p:nvPicPr>
          <p:cNvPr id="122" name="4 - Εικόνα" descr="oscillators3.png"/>
          <p:cNvPicPr/>
          <p:nvPr/>
        </p:nvPicPr>
        <p:blipFill>
          <a:blip r:embed="rId2"/>
          <a:stretch/>
        </p:blipFill>
        <p:spPr>
          <a:xfrm>
            <a:off x="2232360" y="2181240"/>
            <a:ext cx="67320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Other Options Currently Available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36280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ctrum Encoding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ke a single “beat” to represent a set of alphabet symbols over a carrier frequency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erposition of beats represents bytes. Possibility for higher alphabets (Hex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milar to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Shift-Key” modulation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http://en.wikipedia.org/wiki/Multiple_frequency-shift_keying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gle Carrier possible w. OFDM / OAM Control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4 - Εικόνα" descr="beats.png"/>
          <p:cNvPicPr/>
          <p:nvPr/>
        </p:nvPicPr>
        <p:blipFill>
          <a:blip r:embed="rId2"/>
          <a:stretch/>
        </p:blipFill>
        <p:spPr>
          <a:xfrm>
            <a:off x="2028960" y="2799360"/>
            <a:ext cx="5086080" cy="4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fference from transmission systems: signals are to b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Process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not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Detected.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antage: whole register in a single signal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deally an infinite spectrum would contain a whole hard disk!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ssibility of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Collective Registers”. Analog of QC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binatory Set of all bytes present at beginning of computation. Difference only in the processing mode (parallel vs serial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26680" indent="-39492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ssical analogues of Q. C. shown already in the language of Geometric Algebra by Aerts.   [D. Aerts, M. Czahor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et al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. Phys. A: Math. Theor. 40(31), 2007, p. F753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] (quant-ph/0611279)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Transcription Protocols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nscription of Heap/Stack machines into Tape Automata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traction of Global Maps from resulting Automata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ropriate Turing Universal Automata: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METAN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MITH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8 States C.A. Braktif (ALPACA Simulator,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https://github.com/catseye/ALPAC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s://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esolangs.org/wiki/C2BF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iversal Bit-Bit-Jump Language [Mazonka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arxiv.org/abs/0907.217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15520" indent="-3866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leq URISC architecture [Mazonka, Kolodin 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</a:t>
            </a: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arxiv.org/abs/1106.259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isting Paradigms Of Universal Computation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Claude Shannon’s GPA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: General Purpose Analog Computer (1945)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directly programmable w/out self-reconfigurable circuitry and digital interface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st vs accuracy exponentially increasing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Alan Turing’s UTM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iversal Turing Machine) + Churche’s </a:t>
            </a:r>
            <a:r>
              <a:rPr b="0" lang="el-GR" sz="2800" spc="-1" strike="noStrike">
                <a:solidFill>
                  <a:srgbClr val="ffffff"/>
                </a:solidFill>
                <a:latin typeface="Book Antiqu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Calculus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lly programmable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63040" indent="-4222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n Neumann implementation – Digital Design – Boolean Circuits – Controllable accuracy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Limits of Conventional Computing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mory – Speed Bottleneck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ore’s Law breakdown expected near 2025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t generation increasing with dense transistor packing.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ndauer’s Principle: Entropy Increase/Logical gating ~ KT log(2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tempts for “Cold Computing”: Reversible Gates (Fredkin – Toffoli – Margolus 80s – Prequel to QGates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399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nnet: main source of actual entropy due 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Memory Erasure during Read/Write operations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ew Analog Optical Processing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Advantages: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 Transcription of UTM or other Discrete Automaton Protocol into Global Map of equivalent Dynamical System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tical Registers in alphabets higher than Binary! Great Information Compression – Denser Packing (W/Velengths/Optical Fiber)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. No  Digital Design/Boolean Logic at all -&gt; No Need for Transistors/Gates!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imple UTM-Automaton Logic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2" name="3 - Αντικείμενο"/>
          <p:cNvGraphicFramePr/>
          <p:nvPr/>
        </p:nvGraphicFramePr>
        <p:xfrm>
          <a:off x="7740360" y="2853000"/>
          <a:ext cx="791640" cy="4748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93" name="3 - Αντικείμενο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360" y="2853000"/>
                    <a:ext cx="791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inary Discrete Automata defined by L = k+m+2 bits where  k: memory states read, m: internal control states, 1 L/R motion, 1 R/W bit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tal Combinatory Space for Global Map: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tal States: 2^L+1 (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Blank Memory)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quivalence of Alphabet to Phase: k Complex Roots of Unity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quivalence of Current Machine State: 2^L+1 Reference Wavelengths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7480" indent="-4032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bal Map: Transitions to Phase Shifts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5" name="4 - Αντικείμενο"/>
          <p:cNvGraphicFramePr/>
          <p:nvPr/>
        </p:nvGraphicFramePr>
        <p:xfrm>
          <a:off x="7317000" y="5426280"/>
          <a:ext cx="927000" cy="5227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96" name="4 - Αντικείμενο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7000" y="5426280"/>
                    <a:ext cx="927000" cy="5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: k=3,m=2 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(Simplest Wolfram’s UTM)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11640" y="1628640"/>
            <a:ext cx="4085640" cy="305856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860000" y="1628640"/>
            <a:ext cx="3744000" cy="3031200"/>
          </a:xfrm>
          <a:prstGeom prst="rect">
            <a:avLst/>
          </a:prstGeom>
          <a:ln w="9525">
            <a:noFill/>
          </a:ln>
        </p:spPr>
      </p:pic>
      <p:sp>
        <p:nvSpPr>
          <p:cNvPr id="100" name="22 - Θέση περιεχομένου"/>
          <p:cNvSpPr/>
          <p:nvPr/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2 - Θέση περιεχομένου"/>
          <p:cNvSpPr/>
          <p:nvPr/>
        </p:nvSpPr>
        <p:spPr>
          <a:xfrm>
            <a:off x="609480" y="4797000"/>
            <a:ext cx="822924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554760" indent="-4158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put – Output Pairs formed by concatenation of memory + ctrl + motio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760" indent="-4158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hase modulation extracted by Output De-concatenation at prescribed length (A/D conver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rrespondences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3 - Θέση περιεχομένου" descr="oscillators2.png"/>
          <p:cNvPicPr/>
          <p:nvPr/>
        </p:nvPicPr>
        <p:blipFill>
          <a:blip r:embed="rId1"/>
          <a:stretch/>
        </p:blipFill>
        <p:spPr>
          <a:xfrm>
            <a:off x="1280520" y="1600200"/>
            <a:ext cx="6582960" cy="47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quivalent Optical Architecture-I</a:t>
            </a: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3 - Θέση περιεχομένου" descr="oscillators.png"/>
          <p:cNvPicPr/>
          <p:nvPr/>
        </p:nvPicPr>
        <p:blipFill>
          <a:blip r:embed="rId1"/>
          <a:stretch/>
        </p:blipFill>
        <p:spPr>
          <a:xfrm>
            <a:off x="1040760" y="1600200"/>
            <a:ext cx="7062480" cy="47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l-GR" sz="4100" spc="-1" strike="noStrike">
                <a:solidFill>
                  <a:srgbClr val="000000"/>
                </a:solidFill>
                <a:latin typeface="Lucida Sans"/>
              </a:rPr>
              <a:t>Ε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quivalent Optical Architecture-II</a:t>
            </a: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l-GR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7 - Αριστερό-δεξιό βέλος"/>
          <p:cNvSpPr/>
          <p:nvPr/>
        </p:nvSpPr>
        <p:spPr>
          <a:xfrm>
            <a:off x="1691640" y="2277000"/>
            <a:ext cx="647640" cy="268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08" name="8 - Αριστερό-δεξιό βέλος"/>
          <p:cNvSpPr/>
          <p:nvPr/>
        </p:nvSpPr>
        <p:spPr>
          <a:xfrm>
            <a:off x="3420000" y="2277000"/>
            <a:ext cx="719640" cy="268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109" name="12 - Ευθεία γραμμή σύνδεσης"/>
          <p:cNvCxnSpPr/>
          <p:nvPr/>
        </p:nvCxnSpPr>
        <p:spPr>
          <a:xfrm>
            <a:off x="2483640" y="2636640"/>
            <a:ext cx="936360" cy="360"/>
          </a:xfrm>
          <a:prstGeom prst="straightConnector1">
            <a:avLst/>
          </a:prstGeom>
          <a:ln>
            <a:solidFill>
              <a:srgbClr val="998846"/>
            </a:solidFill>
            <a:round/>
          </a:ln>
        </p:spPr>
      </p:cxnSp>
      <p:pic>
        <p:nvPicPr>
          <p:cNvPr id="110" name="14 - Εικόνα" descr="CAcell.PNG"/>
          <p:cNvPicPr/>
          <p:nvPr/>
        </p:nvPicPr>
        <p:blipFill>
          <a:blip r:embed="rId1"/>
          <a:stretch/>
        </p:blipFill>
        <p:spPr>
          <a:xfrm>
            <a:off x="2339640" y="1268640"/>
            <a:ext cx="1079640" cy="1728000"/>
          </a:xfrm>
          <a:prstGeom prst="rect">
            <a:avLst/>
          </a:prstGeom>
          <a:ln w="0">
            <a:noFill/>
          </a:ln>
        </p:spPr>
      </p:pic>
      <p:pic>
        <p:nvPicPr>
          <p:cNvPr id="111" name="15 - Εικόνα" descr="CAcell.PNG"/>
          <p:cNvPicPr/>
          <p:nvPr/>
        </p:nvPicPr>
        <p:blipFill>
          <a:blip r:embed="rId2"/>
          <a:stretch/>
        </p:blipFill>
        <p:spPr>
          <a:xfrm>
            <a:off x="611640" y="1268640"/>
            <a:ext cx="1079640" cy="1728000"/>
          </a:xfrm>
          <a:prstGeom prst="rect">
            <a:avLst/>
          </a:prstGeom>
          <a:ln w="0">
            <a:noFill/>
          </a:ln>
        </p:spPr>
      </p:pic>
      <p:pic>
        <p:nvPicPr>
          <p:cNvPr id="112" name="16 - Εικόνα" descr="CAcell.PNG"/>
          <p:cNvPicPr/>
          <p:nvPr/>
        </p:nvPicPr>
        <p:blipFill>
          <a:blip r:embed="rId3"/>
          <a:stretch/>
        </p:blipFill>
        <p:spPr>
          <a:xfrm>
            <a:off x="4140000" y="1268640"/>
            <a:ext cx="1079640" cy="1728000"/>
          </a:xfrm>
          <a:prstGeom prst="rect">
            <a:avLst/>
          </a:prstGeom>
          <a:ln w="0">
            <a:noFill/>
          </a:ln>
        </p:spPr>
      </p:pic>
      <p:sp>
        <p:nvSpPr>
          <p:cNvPr id="113" name="17 - Αριστερό-δεξιό βέλος"/>
          <p:cNvSpPr/>
          <p:nvPr/>
        </p:nvSpPr>
        <p:spPr>
          <a:xfrm>
            <a:off x="5220000" y="2349000"/>
            <a:ext cx="719640" cy="268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4" name="19 - Διάγραμμα ροής: Παραπομπή"/>
          <p:cNvSpPr/>
          <p:nvPr/>
        </p:nvSpPr>
        <p:spPr>
          <a:xfrm>
            <a:off x="6084000" y="2421000"/>
            <a:ext cx="143640" cy="287640"/>
          </a:xfrm>
          <a:prstGeom prst="flowChartConnector">
            <a:avLst/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5" name="20 - Διάγραμμα ροής: Παραπομπή"/>
          <p:cNvSpPr/>
          <p:nvPr/>
        </p:nvSpPr>
        <p:spPr>
          <a:xfrm>
            <a:off x="6372360" y="2421000"/>
            <a:ext cx="143640" cy="287640"/>
          </a:xfrm>
          <a:prstGeom prst="flowChartConnector">
            <a:avLst/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6" name="21 - Διάγραμμα ροής: Παραπομπή"/>
          <p:cNvSpPr/>
          <p:nvPr/>
        </p:nvSpPr>
        <p:spPr>
          <a:xfrm>
            <a:off x="6660360" y="2421000"/>
            <a:ext cx="143640" cy="287640"/>
          </a:xfrm>
          <a:prstGeom prst="flowChartConnector">
            <a:avLst/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l-GR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7640" y="18450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ellular Automaton” equivalent through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individualization”.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placement of Ref. Wavelength w. single composite signal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ss through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yclic Permutation Gate 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trac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efficient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ly to each phase-ctrl-oscillator</a:t>
            </a:r>
            <a:endParaRPr b="0" lang="el-GR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8" name="23 - Αντικείμενο"/>
          <p:cNvGraphicFramePr/>
          <p:nvPr/>
        </p:nvGraphicFramePr>
        <p:xfrm>
          <a:off x="4068000" y="4453200"/>
          <a:ext cx="2525760" cy="55980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19" name="23 - Αντικείμενο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000" y="4453200"/>
                    <a:ext cx="2525760" cy="55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Αποκορύφωμα">
  <a:themeElements>
    <a:clrScheme name="Αποκορύφωμα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Αποκορύφωμα">
  <a:themeElements>
    <a:clrScheme name="Αποκορύφωμα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72</TotalTime>
  <Application>LibreOffice/7.4.7.2$Linux_X86_64 LibreOffice_project/40$Build-2</Application>
  <AppVersion>15.0000</AppVersion>
  <Words>569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5-05-12T13:09:37Z</dcterms:modified>
  <cp:revision>67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Προβολή στην οθόνη (4:3)</vt:lpwstr>
  </property>
  <property fmtid="{D5CDD505-2E9C-101B-9397-08002B2CF9AE}" pid="3" name="Slides">
    <vt:r8>13</vt:r8>
  </property>
</Properties>
</file>